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C97-678F-4B3E-A84F-A5FE7D15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68E-8DB2-41E3-ABED-7A7A3B43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D558-75EE-4A18-A4E1-F2ED34D4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B66-07AA-4610-B76A-751F4BB7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7044-C424-4E0D-8404-AC6E5496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FD29-7ECD-4EAA-8390-F7905713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19BE-D987-4FCC-AABD-CFFF25F8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8561-B6AE-4CDA-B2A8-FDB0F6A8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F540-CE24-4688-9037-221C4817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836-1719-42CC-9F4C-A467C9B0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7D3B-9FE3-431D-9F4B-09891663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3BB-D6D8-4494-A83B-C01F5C85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E9E1-00AF-4D24-95AB-4CEB6E9517E6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5" descr="Fashon_3のコピー"/>
          <p:cNvPicPr/>
          <p:nvPr/>
        </p:nvPicPr>
        <p:blipFill>
          <a:blip r:embed="rId1"/>
          <a:stretch/>
        </p:blipFill>
        <p:spPr>
          <a:xfrm>
            <a:off x="-68400" y="-15840"/>
            <a:ext cx="23469840" cy="132015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28"/>
          <p:cNvSpPr/>
          <p:nvPr/>
        </p:nvSpPr>
        <p:spPr>
          <a:xfrm>
            <a:off x="2171880" y="0"/>
            <a:ext cx="2400120" cy="20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7"/>
          <p:cNvSpPr/>
          <p:nvPr/>
        </p:nvSpPr>
        <p:spPr>
          <a:xfrm>
            <a:off x="11849040" y="10798200"/>
            <a:ext cx="1149192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STORE NAME or LOG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グループ化 16"/>
          <p:cNvGrpSpPr/>
          <p:nvPr/>
        </p:nvGrpSpPr>
        <p:grpSpPr>
          <a:xfrm>
            <a:off x="7846920" y="2496960"/>
            <a:ext cx="5050080" cy="5132520"/>
            <a:chOff x="7846920" y="2496960"/>
            <a:chExt cx="5050080" cy="5132520"/>
          </a:xfrm>
        </p:grpSpPr>
        <p:pic>
          <p:nvPicPr>
            <p:cNvPr id="45" name="Picture 123" descr="靴"/>
            <p:cNvPicPr/>
            <p:nvPr/>
          </p:nvPicPr>
          <p:blipFill>
            <a:blip r:embed="rId2"/>
            <a:stretch/>
          </p:blipFill>
          <p:spPr>
            <a:xfrm>
              <a:off x="7846920" y="2496960"/>
              <a:ext cx="5050080" cy="513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テキスト ボックス 13"/>
            <p:cNvSpPr/>
            <p:nvPr/>
          </p:nvSpPr>
          <p:spPr>
            <a:xfrm>
              <a:off x="8915400" y="4927320"/>
              <a:ext cx="324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simulated phot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グループ化 21"/>
          <p:cNvGrpSpPr/>
          <p:nvPr/>
        </p:nvGrpSpPr>
        <p:grpSpPr>
          <a:xfrm>
            <a:off x="13125600" y="2422440"/>
            <a:ext cx="3247920" cy="5230800"/>
            <a:chOff x="13125600" y="2422440"/>
            <a:chExt cx="3247920" cy="5230800"/>
          </a:xfrm>
        </p:grpSpPr>
        <p:pic>
          <p:nvPicPr>
            <p:cNvPr id="48" name="Picture 126" descr="服1"/>
            <p:cNvPicPr/>
            <p:nvPr/>
          </p:nvPicPr>
          <p:blipFill>
            <a:blip r:embed="rId3"/>
            <a:stretch/>
          </p:blipFill>
          <p:spPr>
            <a:xfrm>
              <a:off x="13274640" y="2422440"/>
              <a:ext cx="2489040" cy="52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テキスト ボックス 13"/>
            <p:cNvSpPr/>
            <p:nvPr/>
          </p:nvSpPr>
          <p:spPr>
            <a:xfrm>
              <a:off x="13125600" y="4994280"/>
              <a:ext cx="32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simulated phot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グループ化 22"/>
          <p:cNvGrpSpPr/>
          <p:nvPr/>
        </p:nvGrpSpPr>
        <p:grpSpPr>
          <a:xfrm>
            <a:off x="16090920" y="2441520"/>
            <a:ext cx="3254400" cy="5248440"/>
            <a:chOff x="16090920" y="2441520"/>
            <a:chExt cx="3254400" cy="5248440"/>
          </a:xfrm>
        </p:grpSpPr>
        <p:pic>
          <p:nvPicPr>
            <p:cNvPr id="51" name="Picture 130" descr="服2"/>
            <p:cNvPicPr/>
            <p:nvPr/>
          </p:nvPicPr>
          <p:blipFill>
            <a:blip r:embed="rId4"/>
            <a:stretch/>
          </p:blipFill>
          <p:spPr>
            <a:xfrm>
              <a:off x="16090920" y="2441520"/>
              <a:ext cx="2438640" cy="52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テキスト ボックス 13"/>
            <p:cNvSpPr/>
            <p:nvPr/>
          </p:nvSpPr>
          <p:spPr>
            <a:xfrm>
              <a:off x="16097040" y="4937040"/>
              <a:ext cx="324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simulated pho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グループ化 23"/>
          <p:cNvGrpSpPr/>
          <p:nvPr/>
        </p:nvGrpSpPr>
        <p:grpSpPr>
          <a:xfrm>
            <a:off x="2187720" y="57240"/>
            <a:ext cx="3498840" cy="2004840"/>
            <a:chOff x="2187720" y="57240"/>
            <a:chExt cx="3498840" cy="2004840"/>
          </a:xfrm>
        </p:grpSpPr>
        <p:pic>
          <p:nvPicPr>
            <p:cNvPr id="54" name="Picture 127" descr="サングラス"/>
            <p:cNvPicPr/>
            <p:nvPr/>
          </p:nvPicPr>
          <p:blipFill>
            <a:blip r:embed="rId5"/>
            <a:stretch/>
          </p:blipFill>
          <p:spPr>
            <a:xfrm>
              <a:off x="2187720" y="57240"/>
              <a:ext cx="239256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テキスト ボックス 13"/>
            <p:cNvSpPr/>
            <p:nvPr/>
          </p:nvSpPr>
          <p:spPr>
            <a:xfrm>
              <a:off x="2438280" y="879480"/>
              <a:ext cx="324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simulated pho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グループ化 24"/>
          <p:cNvGrpSpPr/>
          <p:nvPr/>
        </p:nvGrpSpPr>
        <p:grpSpPr>
          <a:xfrm>
            <a:off x="18821520" y="2484360"/>
            <a:ext cx="3247920" cy="2349720"/>
            <a:chOff x="18821520" y="2484360"/>
            <a:chExt cx="3247920" cy="2349720"/>
          </a:xfrm>
        </p:grpSpPr>
        <p:pic>
          <p:nvPicPr>
            <p:cNvPr id="57" name="Picture 124" descr="バッグ"/>
            <p:cNvPicPr/>
            <p:nvPr/>
          </p:nvPicPr>
          <p:blipFill>
            <a:blip r:embed="rId6"/>
            <a:stretch/>
          </p:blipFill>
          <p:spPr>
            <a:xfrm>
              <a:off x="18830880" y="2484360"/>
              <a:ext cx="2517840" cy="23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テキスト ボックス 13"/>
            <p:cNvSpPr/>
            <p:nvPr/>
          </p:nvSpPr>
          <p:spPr>
            <a:xfrm>
              <a:off x="18821520" y="3832200"/>
              <a:ext cx="32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simulated pho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グループ化 25"/>
          <p:cNvGrpSpPr/>
          <p:nvPr/>
        </p:nvGrpSpPr>
        <p:grpSpPr>
          <a:xfrm>
            <a:off x="18916560" y="5186520"/>
            <a:ext cx="3305160" cy="2292120"/>
            <a:chOff x="18916560" y="5186520"/>
            <a:chExt cx="3305160" cy="2292120"/>
          </a:xfrm>
        </p:grpSpPr>
        <p:pic>
          <p:nvPicPr>
            <p:cNvPr id="60" name="Picture 131" descr="バッグ"/>
            <p:cNvPicPr/>
            <p:nvPr/>
          </p:nvPicPr>
          <p:blipFill>
            <a:blip r:embed="rId7"/>
            <a:srcRect l="0" t="0" r="-3554" b="0"/>
            <a:stretch/>
          </p:blipFill>
          <p:spPr>
            <a:xfrm>
              <a:off x="18916560" y="5186520"/>
              <a:ext cx="2317680" cy="22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テキスト ボックス 13"/>
            <p:cNvSpPr/>
            <p:nvPr/>
          </p:nvSpPr>
          <p:spPr>
            <a:xfrm>
              <a:off x="18973440" y="6442200"/>
              <a:ext cx="324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simulated pho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グループ化 26"/>
          <p:cNvGrpSpPr/>
          <p:nvPr/>
        </p:nvGrpSpPr>
        <p:grpSpPr>
          <a:xfrm>
            <a:off x="7791480" y="8265960"/>
            <a:ext cx="3324240" cy="1954440"/>
            <a:chOff x="7791480" y="8265960"/>
            <a:chExt cx="3324240" cy="1954440"/>
          </a:xfrm>
        </p:grpSpPr>
        <p:pic>
          <p:nvPicPr>
            <p:cNvPr id="63" name="Picture 132" descr="バッグ"/>
            <p:cNvPicPr/>
            <p:nvPr/>
          </p:nvPicPr>
          <p:blipFill>
            <a:blip r:embed="rId8"/>
            <a:srcRect l="0" t="-1061" r="0" b="0"/>
            <a:stretch/>
          </p:blipFill>
          <p:spPr>
            <a:xfrm>
              <a:off x="7791480" y="8265960"/>
              <a:ext cx="2330640" cy="19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テキスト ボックス 13"/>
            <p:cNvSpPr/>
            <p:nvPr/>
          </p:nvSpPr>
          <p:spPr>
            <a:xfrm>
              <a:off x="7867440" y="9309240"/>
              <a:ext cx="324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simulated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pho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テキスト ボックス 15" descr=""/>
          <p:cNvPicPr/>
          <p:nvPr/>
        </p:nvPicPr>
        <p:blipFill>
          <a:blip r:embed="rId9"/>
          <a:stretch/>
        </p:blipFill>
        <p:spPr>
          <a:xfrm>
            <a:off x="-1884240" y="4962600"/>
            <a:ext cx="2430612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4-26T08:47:55Z</dcterms:modified>
  <cp:revision>28</cp:revision>
  <dc:subject/>
  <dc:title>スライド 1</dc:title>
</cp:coreProperties>
</file>