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3410863" cy="131683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F55B-D97F-435E-8134-AC0EDF5D1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E3B2-B54F-4B24-982F-ADBE82B0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A15C-31F3-4E6E-997E-09689DB92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29440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5417360" y="307296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7144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829440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15417360" y="7612920"/>
            <a:ext cx="67834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20B8-BBFF-4DE1-9809-8B014D02B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6CE7-D013-4CCF-A0E1-36AAF8EC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29F6-3E28-4DC2-9797-952B65C59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0A72-5767-49D9-B5BB-C5DD3D398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9221-7459-40E5-B9C5-361B933C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71440" y="526680"/>
            <a:ext cx="21067920" cy="101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23EE-E235-444D-BA89-A7817E79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1464-25D2-447B-B343-D0973CD7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966760" y="761292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178C-46D8-4893-B508-E11A256D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144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966760" y="3072960"/>
            <a:ext cx="1028088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71440" y="7612920"/>
            <a:ext cx="21067920" cy="414576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4890-7D2C-4C76-96D9-AC3EE5D0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71440" y="526680"/>
            <a:ext cx="21067920" cy="219564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1440" y="3072960"/>
            <a:ext cx="21067920" cy="8691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 fontScale="92000"/>
          </a:bodyPr>
          <a:p>
            <a:pPr marL="721080" indent="-72108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1" marL="1562400" indent="-60120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2" marL="2403720" indent="-48024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3" marL="3364920" indent="-48024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4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5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6" marL="4327200" indent="-48168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7144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997760" y="11993400"/>
            <a:ext cx="741528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6776720" y="11993400"/>
            <a:ext cx="5462640" cy="914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38DA8-E9A5-4005-BBF0-F0AEC7020401}" type="slidenum">
              <a:rPr b="0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5" descr="C:\Users\masai_team2\Pictures\backのコピー.jpg"/>
          <p:cNvPicPr/>
          <p:nvPr/>
        </p:nvPicPr>
        <p:blipFill>
          <a:blip r:embed="rId2"/>
          <a:stretch/>
        </p:blipFill>
        <p:spPr>
          <a:xfrm>
            <a:off x="0" y="0"/>
            <a:ext cx="23410800" cy="1316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5" descr="C:\Users\masai_team2\Pictures\backのコピー.jpg"/>
          <p:cNvPicPr/>
          <p:nvPr/>
        </p:nvPicPr>
        <p:blipFill>
          <a:blip r:embed="rId1"/>
          <a:stretch/>
        </p:blipFill>
        <p:spPr>
          <a:xfrm>
            <a:off x="0" y="0"/>
            <a:ext cx="23410800" cy="13169880"/>
          </a:xfrm>
          <a:prstGeom prst="rect">
            <a:avLst/>
          </a:prstGeom>
          <a:ln w="0">
            <a:noFill/>
          </a:ln>
        </p:spPr>
      </p:pic>
      <p:sp>
        <p:nvSpPr>
          <p:cNvPr id="43" name="テキスト ボックス 6"/>
          <p:cNvSpPr/>
          <p:nvPr/>
        </p:nvSpPr>
        <p:spPr>
          <a:xfrm>
            <a:off x="19843920" y="10301400"/>
            <a:ext cx="204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Pr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2868200" y="11560320"/>
            <a:ext cx="951876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r">
              <a:lnSpc>
                <a:spcPct val="115000"/>
              </a:lnSpc>
              <a:tabLst>
                <a:tab algn="l" pos="0"/>
                <a:tab algn="l" pos="1160640"/>
                <a:tab algn="l" pos="2320920"/>
                <a:tab algn="l" pos="3481560"/>
                <a:tab algn="l" pos="4641840"/>
                <a:tab algn="l" pos="5802480"/>
                <a:tab algn="l" pos="6962760"/>
                <a:tab algn="l" pos="8123400"/>
                <a:tab algn="l" pos="9283680"/>
                <a:tab algn="l" pos="1044432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ＭＳ Ｐゴシック"/>
              </a:rPr>
              <a:t>Store Name or Log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テキスト ボックス 10"/>
          <p:cNvSpPr/>
          <p:nvPr/>
        </p:nvSpPr>
        <p:spPr>
          <a:xfrm>
            <a:off x="7867800" y="257040"/>
            <a:ext cx="16098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0" spc="-1" strike="noStrike">
                <a:solidFill>
                  <a:srgbClr val="ff66cc"/>
                </a:solidFill>
                <a:latin typeface="Bickham Script Pro Semibold"/>
              </a:rPr>
              <a:t>Flower Arrangements 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テキスト ボックス 6"/>
          <p:cNvSpPr/>
          <p:nvPr/>
        </p:nvSpPr>
        <p:spPr>
          <a:xfrm>
            <a:off x="7402680" y="11673000"/>
            <a:ext cx="204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Pr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テキスト ボックス 6"/>
          <p:cNvSpPr/>
          <p:nvPr/>
        </p:nvSpPr>
        <p:spPr>
          <a:xfrm>
            <a:off x="1933560" y="10644120"/>
            <a:ext cx="204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  <a:ea typeface="Arial"/>
              </a:rPr>
              <a:t>Pric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グループ化 21"/>
          <p:cNvGrpSpPr/>
          <p:nvPr/>
        </p:nvGrpSpPr>
        <p:grpSpPr>
          <a:xfrm>
            <a:off x="2690640" y="3270240"/>
            <a:ext cx="4856400" cy="6858000"/>
            <a:chOff x="2690640" y="3270240"/>
            <a:chExt cx="4856400" cy="6858000"/>
          </a:xfrm>
        </p:grpSpPr>
        <p:pic>
          <p:nvPicPr>
            <p:cNvPr id="49" name="Picture 26" descr="shutterstock_14255494"/>
            <p:cNvPicPr/>
            <p:nvPr/>
          </p:nvPicPr>
          <p:blipFill>
            <a:blip r:embed="rId2"/>
            <a:stretch/>
          </p:blipFill>
          <p:spPr>
            <a:xfrm>
              <a:off x="2690640" y="3270240"/>
              <a:ext cx="48564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 Box 28"/>
            <p:cNvSpPr/>
            <p:nvPr/>
          </p:nvSpPr>
          <p:spPr>
            <a:xfrm>
              <a:off x="3993840" y="5852880"/>
              <a:ext cx="230040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2090880"/>
                  <a:tab algn="l" pos="4181400"/>
                  <a:tab algn="l" pos="6272280"/>
                  <a:tab algn="l" pos="8362800"/>
                  <a:tab algn="l" pos="10453680"/>
                </a:tabLst>
              </a:pPr>
              <a:r>
                <a:rPr b="1" lang="en-US" sz="5000" spc="-1" strike="noStrike">
                  <a:solidFill>
                    <a:srgbClr val="ff0000"/>
                  </a:solidFill>
                  <a:latin typeface="Arial"/>
                </a:rPr>
                <a:t>Sample Photo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グループ化 22"/>
          <p:cNvGrpSpPr/>
          <p:nvPr/>
        </p:nvGrpSpPr>
        <p:grpSpPr>
          <a:xfrm>
            <a:off x="8201160" y="7524720"/>
            <a:ext cx="5029200" cy="3770280"/>
            <a:chOff x="8201160" y="7524720"/>
            <a:chExt cx="5029200" cy="3770280"/>
          </a:xfrm>
        </p:grpSpPr>
        <p:pic>
          <p:nvPicPr>
            <p:cNvPr id="52" name="Picture 25" descr="shutterstock_3660923"/>
            <p:cNvPicPr/>
            <p:nvPr/>
          </p:nvPicPr>
          <p:blipFill>
            <a:blip r:embed="rId3"/>
            <a:stretch/>
          </p:blipFill>
          <p:spPr>
            <a:xfrm>
              <a:off x="8201160" y="7524720"/>
              <a:ext cx="5029200" cy="377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32"/>
            <p:cNvSpPr/>
            <p:nvPr/>
          </p:nvSpPr>
          <p:spPr>
            <a:xfrm>
              <a:off x="9406080" y="8624880"/>
              <a:ext cx="2300400" cy="16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2090880"/>
                  <a:tab algn="l" pos="4181400"/>
                  <a:tab algn="l" pos="6272280"/>
                  <a:tab algn="l" pos="8362800"/>
                  <a:tab algn="l" pos="10453680"/>
                </a:tabLst>
              </a:pPr>
              <a:r>
                <a:rPr b="1" lang="en-US" sz="5000" spc="-1" strike="noStrike">
                  <a:solidFill>
                    <a:srgbClr val="ff0000"/>
                  </a:solidFill>
                  <a:latin typeface="Arial"/>
                </a:rPr>
                <a:t>Sample Photo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Text Box 33"/>
          <p:cNvSpPr/>
          <p:nvPr/>
        </p:nvSpPr>
        <p:spPr>
          <a:xfrm>
            <a:off x="16722720" y="9420120"/>
            <a:ext cx="3786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ja-JP" sz="2000" spc="-1" strike="noStrike">
                <a:solidFill>
                  <a:srgbClr val="ff0000"/>
                </a:solidFill>
                <a:latin typeface="ＭＳ Ｐゴシック"/>
              </a:rPr>
              <a:t>写真はイメージ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7" descr="shutterstock_70897414"/>
          <p:cNvPicPr/>
          <p:nvPr/>
        </p:nvPicPr>
        <p:blipFill>
          <a:blip r:embed="rId4"/>
          <a:stretch/>
        </p:blipFill>
        <p:spPr>
          <a:xfrm>
            <a:off x="13926960" y="5070600"/>
            <a:ext cx="7709040" cy="50752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2"/>
          <p:cNvSpPr/>
          <p:nvPr/>
        </p:nvSpPr>
        <p:spPr>
          <a:xfrm>
            <a:off x="16702200" y="7176960"/>
            <a:ext cx="23000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"/>
              </a:rPr>
              <a:t>Sample Phot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1:56:09Z</dcterms:created>
  <dc:creator>sf</dc:creator>
  <dc:description/>
  <dc:language>en-US</dc:language>
  <cp:lastModifiedBy>ishitomi</cp:lastModifiedBy>
  <dcterms:modified xsi:type="dcterms:W3CDTF">2015-04-26T08:27:48Z</dcterms:modified>
  <cp:revision>23</cp:revision>
  <dc:subject/>
  <dc:title>スライド 1</dc:title>
</cp:coreProperties>
</file>