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3410863" cy="13168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7C33-23CE-4781-83B9-91283827A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71440" y="761292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DEF5-0DD3-4444-8D79-B39589B5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196676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2830-5014-47A5-A851-D02D29C69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29440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541736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7144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829440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541736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5060-F2F1-4D1B-AA43-EB30C122A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FBBD-EF93-4F73-9834-BD105011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E647-1849-4634-A1F5-73D54D88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105F-2078-4FBA-9493-36300FAD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11B5-B617-419D-A08E-1B78D1AF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1440" y="526680"/>
            <a:ext cx="21067920" cy="1017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FB3A-24E9-464B-BFE2-84B5EF88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4118-2A80-42C8-9447-BA00331E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96676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26DB-EFE3-44EC-975D-710ED4EA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FF98-BC0A-46EA-81A7-E57136E4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10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 fontScale="92000"/>
          </a:bodyPr>
          <a:p>
            <a:pPr marL="721080" indent="-72108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1" marL="1562400" indent="-60120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2" marL="2403720" indent="-48024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3" marL="3364920" indent="-48024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4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5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6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1440" y="11993400"/>
            <a:ext cx="546264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997760" y="11993400"/>
            <a:ext cx="741528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6776720" y="11993400"/>
            <a:ext cx="546264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8A8D-AC4A-4F13-858F-00029EDC58EC}" type="slidenum">
              <a:rPr b="0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8" descr="Flower_1"/>
          <p:cNvPicPr/>
          <p:nvPr/>
        </p:nvPicPr>
        <p:blipFill>
          <a:blip r:embed="rId2"/>
          <a:stretch/>
        </p:blipFill>
        <p:spPr>
          <a:xfrm>
            <a:off x="0" y="0"/>
            <a:ext cx="23410800" cy="1316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8" descr="Flower_1"/>
          <p:cNvPicPr/>
          <p:nvPr/>
        </p:nvPicPr>
        <p:blipFill>
          <a:blip r:embed="rId1"/>
          <a:stretch/>
        </p:blipFill>
        <p:spPr>
          <a:xfrm>
            <a:off x="0" y="0"/>
            <a:ext cx="23410800" cy="131684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3"/>
          <p:cNvSpPr/>
          <p:nvPr/>
        </p:nvSpPr>
        <p:spPr>
          <a:xfrm>
            <a:off x="13095360" y="11874600"/>
            <a:ext cx="9663120" cy="10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algn="r">
              <a:lnSpc>
                <a:spcPct val="115000"/>
              </a:lnSpc>
              <a:tabLst>
                <a:tab algn="l" pos="0"/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1" lang="en-US" sz="4800" spc="-1" strike="noStrike">
                <a:solidFill>
                  <a:srgbClr val="50412e"/>
                </a:solidFill>
                <a:latin typeface="Arial"/>
                <a:ea typeface="ＭＳ 明朝"/>
              </a:rPr>
              <a:t>Store name or lo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10"/>
          <p:cNvSpPr/>
          <p:nvPr/>
        </p:nvSpPr>
        <p:spPr>
          <a:xfrm>
            <a:off x="-1285560" y="743040"/>
            <a:ext cx="2491236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400" spc="-1" strike="noStrike">
                <a:solidFill>
                  <a:srgbClr val="ff66cc"/>
                </a:solidFill>
                <a:latin typeface="Bickham Script Pro Semibold"/>
              </a:rPr>
              <a:t>Flower Arrangement Classes </a:t>
            </a:r>
            <a:endParaRPr b="0" lang="en-US" sz="1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テキスト ボックス 19"/>
          <p:cNvSpPr/>
          <p:nvPr/>
        </p:nvSpPr>
        <p:spPr>
          <a:xfrm>
            <a:off x="948600" y="12007800"/>
            <a:ext cx="1084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412e"/>
                </a:solidFill>
                <a:latin typeface="Arial"/>
              </a:rPr>
              <a:t>Please feel free to ask one of our staff for detai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4"/>
          <p:cNvSpPr/>
          <p:nvPr/>
        </p:nvSpPr>
        <p:spPr>
          <a:xfrm>
            <a:off x="1285920" y="3943440"/>
            <a:ext cx="10420200" cy="85716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テキスト ボックス 5"/>
          <p:cNvSpPr/>
          <p:nvPr/>
        </p:nvSpPr>
        <p:spPr>
          <a:xfrm>
            <a:off x="1670400" y="4067280"/>
            <a:ext cx="435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50412e"/>
                </a:solidFill>
                <a:latin typeface="Arial"/>
              </a:rPr>
              <a:t>■</a:t>
            </a:r>
            <a:r>
              <a:rPr b="1" lang="en-US" sz="3200" spc="-1" strike="noStrike">
                <a:solidFill>
                  <a:srgbClr val="50412e"/>
                </a:solidFill>
                <a:latin typeface="Arial"/>
              </a:rPr>
              <a:t>Introductory Les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テキスト ボックス 6"/>
          <p:cNvSpPr/>
          <p:nvPr/>
        </p:nvSpPr>
        <p:spPr>
          <a:xfrm>
            <a:off x="6860520" y="3843360"/>
            <a:ext cx="284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ee</a:t>
            </a:r>
            <a:r>
              <a:rPr b="1" lang="ja-JP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00.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7"/>
          <p:cNvSpPr/>
          <p:nvPr/>
        </p:nvSpPr>
        <p:spPr>
          <a:xfrm>
            <a:off x="1271520" y="6775560"/>
            <a:ext cx="7804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0412e"/>
                </a:solidFill>
                <a:latin typeface="Arial"/>
              </a:rPr>
              <a:t>4 Times (Every Other Wee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8"/>
          <p:cNvSpPr/>
          <p:nvPr/>
        </p:nvSpPr>
        <p:spPr>
          <a:xfrm>
            <a:off x="1285920" y="5894280"/>
            <a:ext cx="10420200" cy="8575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5"/>
          <p:cNvSpPr/>
          <p:nvPr/>
        </p:nvSpPr>
        <p:spPr>
          <a:xfrm>
            <a:off x="1584720" y="6018120"/>
            <a:ext cx="408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50412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50412e"/>
                </a:solidFill>
                <a:latin typeface="Arial"/>
              </a:rPr>
              <a:t>Beginner's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2"/>
          <p:cNvSpPr/>
          <p:nvPr/>
        </p:nvSpPr>
        <p:spPr>
          <a:xfrm>
            <a:off x="1285920" y="7808760"/>
            <a:ext cx="10420200" cy="8575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テキスト ボックス 5"/>
          <p:cNvSpPr/>
          <p:nvPr/>
        </p:nvSpPr>
        <p:spPr>
          <a:xfrm>
            <a:off x="1662120" y="7932600"/>
            <a:ext cx="399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50412e"/>
                </a:solidFill>
                <a:latin typeface="Arial"/>
              </a:rPr>
              <a:t>■ </a:t>
            </a:r>
            <a:r>
              <a:rPr b="1" lang="en-US" sz="3200" spc="-1" strike="noStrike">
                <a:solidFill>
                  <a:srgbClr val="50412e"/>
                </a:solidFill>
                <a:latin typeface="Arial"/>
              </a:rPr>
              <a:t>Advanced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7"/>
          <p:cNvSpPr/>
          <p:nvPr/>
        </p:nvSpPr>
        <p:spPr>
          <a:xfrm>
            <a:off x="1281240" y="8728200"/>
            <a:ext cx="7804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0412e"/>
                </a:solidFill>
                <a:latin typeface="Arial"/>
              </a:rPr>
              <a:t>4 Times (Every Other Wee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グループ化 21"/>
          <p:cNvGrpSpPr/>
          <p:nvPr/>
        </p:nvGrpSpPr>
        <p:grpSpPr>
          <a:xfrm>
            <a:off x="11391840" y="6846840"/>
            <a:ext cx="5819760" cy="4362480"/>
            <a:chOff x="11391840" y="6846840"/>
            <a:chExt cx="5819760" cy="4362480"/>
          </a:xfrm>
        </p:grpSpPr>
        <p:pic>
          <p:nvPicPr>
            <p:cNvPr id="56" name="Picture 31" descr="shutterstock_3660923"/>
            <p:cNvPicPr/>
            <p:nvPr/>
          </p:nvPicPr>
          <p:blipFill>
            <a:blip r:embed="rId2"/>
            <a:stretch/>
          </p:blipFill>
          <p:spPr>
            <a:xfrm>
              <a:off x="11391840" y="6846840"/>
              <a:ext cx="5819760" cy="436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33"/>
            <p:cNvSpPr/>
            <p:nvPr/>
          </p:nvSpPr>
          <p:spPr>
            <a:xfrm>
              <a:off x="12626640" y="10353600"/>
              <a:ext cx="37861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2090880"/>
                  <a:tab algn="l" pos="4181400"/>
                  <a:tab algn="l" pos="6272280"/>
                  <a:tab algn="l" pos="8362800"/>
                  <a:tab algn="l" pos="1045368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Simulated Imag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Picture 30" descr="shutterstock_52880113"/>
          <p:cNvPicPr/>
          <p:nvPr/>
        </p:nvPicPr>
        <p:blipFill>
          <a:blip r:embed="rId3"/>
          <a:stretch/>
        </p:blipFill>
        <p:spPr>
          <a:xfrm>
            <a:off x="17489520" y="5322960"/>
            <a:ext cx="5033880" cy="5925960"/>
          </a:xfrm>
          <a:prstGeom prst="rect">
            <a:avLst/>
          </a:prstGeom>
          <a:ln w="0">
            <a:noFill/>
          </a:ln>
        </p:spPr>
      </p:pic>
      <p:sp>
        <p:nvSpPr>
          <p:cNvPr id="59" name="テキスト ボックス 6"/>
          <p:cNvSpPr/>
          <p:nvPr/>
        </p:nvSpPr>
        <p:spPr>
          <a:xfrm>
            <a:off x="6869880" y="5796000"/>
            <a:ext cx="284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ee</a:t>
            </a:r>
            <a:r>
              <a:rPr b="1" lang="ja-JP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00.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テキスト ボックス 6"/>
          <p:cNvSpPr/>
          <p:nvPr/>
        </p:nvSpPr>
        <p:spPr>
          <a:xfrm>
            <a:off x="6869880" y="7738920"/>
            <a:ext cx="284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ee</a:t>
            </a:r>
            <a:r>
              <a:rPr b="1" lang="ja-JP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00.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3"/>
          <p:cNvSpPr/>
          <p:nvPr/>
        </p:nvSpPr>
        <p:spPr>
          <a:xfrm>
            <a:off x="18437400" y="10449000"/>
            <a:ext cx="37861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imulated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1:56:09Z</dcterms:created>
  <dc:creator>sf</dc:creator>
  <dc:description/>
  <dc:language>en-US</dc:language>
  <cp:lastModifiedBy>ishitomi</cp:lastModifiedBy>
  <dcterms:modified xsi:type="dcterms:W3CDTF">2015-04-26T08:28:41Z</dcterms:modified>
  <cp:revision>18</cp:revision>
  <dc:subject/>
  <dc:title>スライド 1</dc:title>
</cp:coreProperties>
</file>