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23410863" cy="131683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382680" y="685440"/>
            <a:ext cx="609264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r>
              <a:rPr b="0" lang="en-US" sz="101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0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E7275-409E-4AE6-9C18-6D4FD1F1A955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382680" y="685800"/>
            <a:ext cx="609264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83560-E98F-4A70-9C6D-83DD23B09C75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E8922-E7D1-4146-B808-BCA842EB7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71440" y="526680"/>
            <a:ext cx="21067920" cy="219564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ctr">
            <a:noAutofit/>
          </a:bodyPr>
          <a:p>
            <a:pPr indent="0" algn="ctr">
              <a:buNone/>
              <a:tabLst>
                <a:tab algn="l" pos="0"/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10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71440" y="3072960"/>
            <a:ext cx="21067920" cy="414576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71440" y="7612920"/>
            <a:ext cx="21067920" cy="414576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316A4-E245-4ABD-B93F-249BC1D41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1440" y="526680"/>
            <a:ext cx="21067920" cy="219564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ctr">
            <a:noAutofit/>
          </a:bodyPr>
          <a:p>
            <a:pPr indent="0" algn="ctr">
              <a:buNone/>
              <a:tabLst>
                <a:tab algn="l" pos="0"/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10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1440" y="3072960"/>
            <a:ext cx="10280880" cy="414576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966760" y="3072960"/>
            <a:ext cx="10280880" cy="414576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71440" y="7612920"/>
            <a:ext cx="10280880" cy="414576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11966760" y="7612920"/>
            <a:ext cx="10280880" cy="414576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2F1D5-C0C5-4716-8FD9-FEFB44CF4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1440" y="526680"/>
            <a:ext cx="21067920" cy="219564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ctr">
            <a:noAutofit/>
          </a:bodyPr>
          <a:p>
            <a:pPr indent="0" algn="ctr">
              <a:buNone/>
              <a:tabLst>
                <a:tab algn="l" pos="0"/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10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71440" y="3072960"/>
            <a:ext cx="6783480" cy="414576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294400" y="3072960"/>
            <a:ext cx="6783480" cy="414576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5417360" y="3072960"/>
            <a:ext cx="6783480" cy="414576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71440" y="7612920"/>
            <a:ext cx="6783480" cy="414576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8294400" y="7612920"/>
            <a:ext cx="6783480" cy="414576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15417360" y="7612920"/>
            <a:ext cx="6783480" cy="414576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6DAA5-84A1-4C0E-93ED-CEC599E6E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71440" y="526680"/>
            <a:ext cx="21067920" cy="219564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ctr">
            <a:noAutofit/>
          </a:bodyPr>
          <a:p>
            <a:pPr indent="0" algn="ctr">
              <a:buNone/>
              <a:tabLst>
                <a:tab algn="l" pos="0"/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10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71440" y="3072960"/>
            <a:ext cx="21067920" cy="869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26"/>
              </a:spcBef>
              <a:buNone/>
              <a:tabLst>
                <a:tab algn="l" pos="0"/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544E7-D7C7-46FD-BB2E-F12ABF685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71440" y="526680"/>
            <a:ext cx="21067920" cy="219564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ctr">
            <a:noAutofit/>
          </a:bodyPr>
          <a:p>
            <a:pPr indent="0" algn="ctr">
              <a:buNone/>
              <a:tabLst>
                <a:tab algn="l" pos="0"/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10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71440" y="3072960"/>
            <a:ext cx="21067920" cy="869148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D78A3-6858-4E8B-B4CB-66E091DE6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71440" y="526680"/>
            <a:ext cx="21067920" cy="219564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ctr">
            <a:noAutofit/>
          </a:bodyPr>
          <a:p>
            <a:pPr indent="0" algn="ctr">
              <a:buNone/>
              <a:tabLst>
                <a:tab algn="l" pos="0"/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10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71440" y="3072960"/>
            <a:ext cx="10280880" cy="869148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11966760" y="3072960"/>
            <a:ext cx="10280880" cy="869148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D946A-FB5E-426C-BAAF-145835509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1440" y="526680"/>
            <a:ext cx="21067920" cy="219564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ctr">
            <a:noAutofit/>
          </a:bodyPr>
          <a:p>
            <a:pPr indent="0" algn="ctr">
              <a:buNone/>
              <a:tabLst>
                <a:tab algn="l" pos="0"/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10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99F77-ED89-41D3-9367-E83A1FC29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71440" y="526680"/>
            <a:ext cx="21067920" cy="1017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26"/>
              </a:spcBef>
              <a:tabLst>
                <a:tab algn="l" pos="0"/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38220-90AB-4EB3-A528-3A0AA1047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71440" y="526680"/>
            <a:ext cx="21067920" cy="219564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ctr">
            <a:noAutofit/>
          </a:bodyPr>
          <a:p>
            <a:pPr indent="0" algn="ctr">
              <a:buNone/>
              <a:tabLst>
                <a:tab algn="l" pos="0"/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10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71440" y="3072960"/>
            <a:ext cx="10280880" cy="414576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11966760" y="3072960"/>
            <a:ext cx="10280880" cy="869148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71440" y="7612920"/>
            <a:ext cx="10280880" cy="414576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D75B4-325C-4018-93C7-189485A5C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71440" y="526680"/>
            <a:ext cx="21067920" cy="219564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ctr">
            <a:noAutofit/>
          </a:bodyPr>
          <a:p>
            <a:pPr indent="0" algn="ctr">
              <a:buNone/>
              <a:tabLst>
                <a:tab algn="l" pos="0"/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10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71440" y="3072960"/>
            <a:ext cx="10280880" cy="869148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11966760" y="3072960"/>
            <a:ext cx="10280880" cy="414576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1966760" y="7612920"/>
            <a:ext cx="10280880" cy="414576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C2AFF-30DF-431E-9042-FB1FBFA3E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1440" y="526680"/>
            <a:ext cx="21067920" cy="219564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ctr">
            <a:noAutofit/>
          </a:bodyPr>
          <a:p>
            <a:pPr indent="0" algn="ctr">
              <a:buNone/>
              <a:tabLst>
                <a:tab algn="l" pos="0"/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10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71440" y="3072960"/>
            <a:ext cx="10280880" cy="414576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1966760" y="3072960"/>
            <a:ext cx="10280880" cy="414576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71440" y="7612920"/>
            <a:ext cx="21067920" cy="414576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5A2D9-8BB0-4946-9C5B-4E9CA24BE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71440" y="526680"/>
            <a:ext cx="21067920" cy="219564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ctr">
            <a:noAutofit/>
          </a:bodyPr>
          <a:p>
            <a:pPr indent="0" algn="ctr">
              <a:buNone/>
              <a:tabLst>
                <a:tab algn="l" pos="0"/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r>
              <a:rPr b="0" lang="en-US" sz="10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0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71440" y="3072960"/>
            <a:ext cx="21067920" cy="869148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 fontScale="92000"/>
          </a:bodyPr>
          <a:p>
            <a:pPr marL="721080" indent="-721080">
              <a:spcBef>
                <a:spcPts val="1826"/>
              </a:spcBef>
              <a:buClr>
                <a:srgbClr val="000000"/>
              </a:buClr>
              <a:buFont typeface="Arial"/>
              <a:buChar char="•"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r>
              <a:rPr b="0" lang="en-US" sz="7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  <a:p>
            <a:pPr lvl="1" marL="1562400" indent="-601200">
              <a:spcBef>
                <a:spcPts val="1826"/>
              </a:spcBef>
              <a:buClr>
                <a:srgbClr val="000000"/>
              </a:buClr>
              <a:buFont typeface="Arial"/>
              <a:buChar char="–"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r>
              <a:rPr b="0" lang="en-US" sz="73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  <a:p>
            <a:pPr lvl="2" marL="2403720" indent="-480240">
              <a:spcBef>
                <a:spcPts val="1826"/>
              </a:spcBef>
              <a:buClr>
                <a:srgbClr val="000000"/>
              </a:buClr>
              <a:buFont typeface="Arial"/>
              <a:buChar char="•"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r>
              <a:rPr b="0" lang="en-US" sz="7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  <a:p>
            <a:pPr lvl="3" marL="3364920" indent="-480240">
              <a:spcBef>
                <a:spcPts val="1826"/>
              </a:spcBef>
              <a:buClr>
                <a:srgbClr val="000000"/>
              </a:buClr>
              <a:buFont typeface="Arial"/>
              <a:buChar char="–"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r>
              <a:rPr b="0" lang="en-US" sz="7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  <a:p>
            <a:pPr lvl="4" marL="4327200" indent="-481680">
              <a:spcBef>
                <a:spcPts val="1826"/>
              </a:spcBef>
              <a:buClr>
                <a:srgbClr val="000000"/>
              </a:buClr>
              <a:buFont typeface="Arial"/>
              <a:buChar char="»"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r>
              <a:rPr b="0" lang="en-US" sz="73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  <a:p>
            <a:pPr lvl="5" marL="4327200" indent="-481680">
              <a:spcBef>
                <a:spcPts val="1826"/>
              </a:spcBef>
              <a:buClr>
                <a:srgbClr val="000000"/>
              </a:buClr>
              <a:buFont typeface="Arial"/>
              <a:buChar char="»"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r>
              <a:rPr b="0" lang="en-US" sz="73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  <a:p>
            <a:pPr lvl="6" marL="4327200" indent="-481680">
              <a:spcBef>
                <a:spcPts val="1826"/>
              </a:spcBef>
              <a:buClr>
                <a:srgbClr val="000000"/>
              </a:buClr>
              <a:buFont typeface="Arial"/>
              <a:buChar char="»"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r>
              <a:rPr b="0" lang="en-US" sz="73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171440" y="11993400"/>
            <a:ext cx="5462640" cy="91440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997760" y="11993400"/>
            <a:ext cx="7415280" cy="91440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6776720" y="11993400"/>
            <a:ext cx="5462640" cy="91440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DC8EB-6FBB-4EAE-B037-C8B42B28AA8F}" type="slidenum">
              <a:rPr b="0" lang="en-US" sz="3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29" descr="Flower_2"/>
          <p:cNvPicPr/>
          <p:nvPr/>
        </p:nvPicPr>
        <p:blipFill>
          <a:blip r:embed="rId2"/>
          <a:stretch/>
        </p:blipFill>
        <p:spPr>
          <a:xfrm>
            <a:off x="0" y="0"/>
            <a:ext cx="23410800" cy="13168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テキスト ボックス 10"/>
          <p:cNvSpPr/>
          <p:nvPr/>
        </p:nvSpPr>
        <p:spPr>
          <a:xfrm>
            <a:off x="6928560" y="4371840"/>
            <a:ext cx="14239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400" spc="-1" strike="noStrike">
                <a:solidFill>
                  <a:srgbClr val="50412e"/>
                </a:solidFill>
                <a:latin typeface="Arial"/>
              </a:rPr>
              <a:t>Send a lovely bouquet to someone special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38"/>
          <p:cNvSpPr/>
          <p:nvPr/>
        </p:nvSpPr>
        <p:spPr>
          <a:xfrm>
            <a:off x="4886280" y="6219720"/>
            <a:ext cx="12458880" cy="730440"/>
          </a:xfrm>
          <a:prstGeom prst="rect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テキスト ボックス 9"/>
          <p:cNvSpPr/>
          <p:nvPr/>
        </p:nvSpPr>
        <p:spPr>
          <a:xfrm>
            <a:off x="4953240" y="6265800"/>
            <a:ext cx="3587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elivery Detai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2" descr="名称未設定-1"/>
          <p:cNvPicPr/>
          <p:nvPr/>
        </p:nvPicPr>
        <p:blipFill>
          <a:blip r:embed="rId1"/>
          <a:stretch/>
        </p:blipFill>
        <p:spPr>
          <a:xfrm>
            <a:off x="15057360" y="5518080"/>
            <a:ext cx="2905200" cy="23605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4" descr="名称未設定-2"/>
          <p:cNvPicPr/>
          <p:nvPr/>
        </p:nvPicPr>
        <p:blipFill>
          <a:blip r:embed="rId2"/>
          <a:stretch/>
        </p:blipFill>
        <p:spPr>
          <a:xfrm>
            <a:off x="4951440" y="7851600"/>
            <a:ext cx="3448080" cy="25099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45" descr="名称未設定-2"/>
          <p:cNvPicPr/>
          <p:nvPr/>
        </p:nvPicPr>
        <p:blipFill>
          <a:blip r:embed="rId3"/>
          <a:stretch/>
        </p:blipFill>
        <p:spPr>
          <a:xfrm>
            <a:off x="8842320" y="7851600"/>
            <a:ext cx="3448080" cy="25099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6" descr="名称未設定-2"/>
          <p:cNvPicPr/>
          <p:nvPr/>
        </p:nvPicPr>
        <p:blipFill>
          <a:blip r:embed="rId4"/>
          <a:stretch/>
        </p:blipFill>
        <p:spPr>
          <a:xfrm>
            <a:off x="12733200" y="7851600"/>
            <a:ext cx="3448080" cy="2509920"/>
          </a:xfrm>
          <a:prstGeom prst="rect">
            <a:avLst/>
          </a:prstGeom>
          <a:ln w="0">
            <a:noFill/>
          </a:ln>
        </p:spPr>
      </p:pic>
      <p:sp>
        <p:nvSpPr>
          <p:cNvPr id="56" name="テキスト ボックス 9"/>
          <p:cNvSpPr/>
          <p:nvPr/>
        </p:nvSpPr>
        <p:spPr>
          <a:xfrm>
            <a:off x="5114160" y="7281720"/>
            <a:ext cx="322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ning Deliv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テキスト ボックス 9"/>
          <p:cNvSpPr/>
          <p:nvPr/>
        </p:nvSpPr>
        <p:spPr>
          <a:xfrm>
            <a:off x="8881920" y="7281720"/>
            <a:ext cx="352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ternoon Deliv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テキスト ボックス 9"/>
          <p:cNvSpPr/>
          <p:nvPr/>
        </p:nvSpPr>
        <p:spPr>
          <a:xfrm>
            <a:off x="12945240" y="7281720"/>
            <a:ext cx="323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ning Deliv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テキスト ボックス 10"/>
          <p:cNvSpPr/>
          <p:nvPr/>
        </p:nvSpPr>
        <p:spPr>
          <a:xfrm>
            <a:off x="6534720" y="1851120"/>
            <a:ext cx="13986720" cy="30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9500" spc="-1" strike="noStrike">
                <a:solidFill>
                  <a:srgbClr val="ff66cc"/>
                </a:solidFill>
                <a:latin typeface="Bickham Script Pro Semibold"/>
              </a:rPr>
              <a:t>Gift Flowers</a:t>
            </a:r>
            <a:endParaRPr b="0" lang="en-US" sz="19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55" descr="shutterstock_14255494"/>
          <p:cNvPicPr/>
          <p:nvPr/>
        </p:nvPicPr>
        <p:blipFill>
          <a:blip r:embed="rId5"/>
          <a:stretch/>
        </p:blipFill>
        <p:spPr>
          <a:xfrm>
            <a:off x="1604880" y="6356520"/>
            <a:ext cx="3490920" cy="4429080"/>
          </a:xfrm>
          <a:prstGeom prst="rect">
            <a:avLst/>
          </a:prstGeom>
          <a:ln w="0">
            <a:noFill/>
          </a:ln>
        </p:spPr>
      </p:pic>
      <p:sp>
        <p:nvSpPr>
          <p:cNvPr id="61" name="Text Box 56"/>
          <p:cNvSpPr/>
          <p:nvPr/>
        </p:nvSpPr>
        <p:spPr>
          <a:xfrm>
            <a:off x="6894360" y="11617200"/>
            <a:ext cx="9663120" cy="122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74240" rIns="174240" tIns="87120" bIns="8712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1160640"/>
                <a:tab algn="l" pos="2320920"/>
                <a:tab algn="l" pos="3481560"/>
                <a:tab algn="l" pos="4641840"/>
                <a:tab algn="l" pos="5802480"/>
                <a:tab algn="l" pos="6962760"/>
                <a:tab algn="l" pos="8123400"/>
                <a:tab algn="l" pos="9283680"/>
                <a:tab algn="l" pos="10444320"/>
              </a:tabLst>
            </a:pPr>
            <a:r>
              <a:rPr b="1" lang="en-US" sz="6000" spc="-1" strike="noStrike">
                <a:solidFill>
                  <a:srgbClr val="50412e"/>
                </a:solidFill>
                <a:latin typeface="Arial"/>
                <a:ea typeface="ＭＳ 明朝"/>
              </a:rPr>
              <a:t>Store Name or Log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テキスト ボックス 19"/>
          <p:cNvSpPr/>
          <p:nvPr/>
        </p:nvSpPr>
        <p:spPr>
          <a:xfrm>
            <a:off x="8852040" y="6311880"/>
            <a:ext cx="699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Just let us know the date and ti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テキスト ボックス 20"/>
          <p:cNvSpPr/>
          <p:nvPr/>
        </p:nvSpPr>
        <p:spPr>
          <a:xfrm>
            <a:off x="5597640" y="9055080"/>
            <a:ext cx="245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0:00-0: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21"/>
          <p:cNvSpPr/>
          <p:nvPr/>
        </p:nvSpPr>
        <p:spPr>
          <a:xfrm>
            <a:off x="9474120" y="9050400"/>
            <a:ext cx="245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0:00-0: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テキスト ボックス 22"/>
          <p:cNvSpPr/>
          <p:nvPr/>
        </p:nvSpPr>
        <p:spPr>
          <a:xfrm>
            <a:off x="13555800" y="9050400"/>
            <a:ext cx="245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0:00-0: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2T01:56:09Z</dcterms:created>
  <dc:creator>sf</dc:creator>
  <dc:description/>
  <dc:language>en-US</dc:language>
  <cp:lastModifiedBy>ishitomi</cp:lastModifiedBy>
  <dcterms:modified xsi:type="dcterms:W3CDTF">2015-04-26T08:26:57Z</dcterms:modified>
  <cp:revision>22</cp:revision>
  <dc:subject/>
  <dc:title>スライド 1</dc:title>
</cp:coreProperties>
</file>