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919-06AE-45B7-B546-3E92A9F9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139-5AD8-4D2B-8856-3FB6510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CD4-0EE8-45DF-B03C-EA15CC6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350-3D43-4AC7-911A-F9ED88E1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E9A7-6C75-47E3-9593-5C5F7269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6263-D3BB-44AF-8DC0-BA0E4A06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68E2-17FF-410F-8D86-03EDD202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A8D1-A21F-43C2-987C-161C29A5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1B9F-16E5-48A2-A598-91963DF2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AFF-A71E-4D2B-9A4B-078D0211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B065-66E6-41E7-94EF-4609ABE1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AB0-6C84-43AA-93DC-1AFA977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A8E3-D770-4078-A956-4542BA2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582F-558B-4AF1-BB11-BD6E8D1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5261-2F42-4DA2-9DBD-F4C370AA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694-239E-4284-ACF6-A74D9021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62A5-BD85-4272-91DB-120DDC6B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27D-2FE2-450F-86F7-9B1899C5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485-B78F-4062-A005-8B61E79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AD6-2C5F-43D1-A8F7-BB528FB9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4DA-9841-4FC7-8317-BB478340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6A8-910A-4B29-BBC2-11FF290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371-3F84-4C1C-948A-98F69345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E47-BC1C-4C30-A22F-8D37A52D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460-6152-495D-8DD7-926D3B10E5B0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図 19" descr=""/>
          <p:cNvPicPr/>
          <p:nvPr/>
        </p:nvPicPr>
        <p:blipFill>
          <a:blip r:embed="rId2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7" name="Text Box 137"/>
          <p:cNvSpPr/>
          <p:nvPr/>
        </p:nvSpPr>
        <p:spPr>
          <a:xfrm>
            <a:off x="49068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正方形/長方形 16"/>
          <p:cNvSpPr/>
          <p:nvPr/>
        </p:nvSpPr>
        <p:spPr>
          <a:xfrm>
            <a:off x="0" y="0"/>
            <a:ext cx="13169880" cy="23410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正方形/長方形 17"/>
          <p:cNvSpPr/>
          <p:nvPr/>
        </p:nvSpPr>
        <p:spPr>
          <a:xfrm>
            <a:off x="255600" y="512640"/>
            <a:ext cx="12708000" cy="216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9" descr=""/>
          <p:cNvPicPr/>
          <p:nvPr/>
        </p:nvPicPr>
        <p:blipFill>
          <a:blip r:embed="rId2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7"/>
          <p:cNvSpPr/>
          <p:nvPr/>
        </p:nvSpPr>
        <p:spPr>
          <a:xfrm>
            <a:off x="49068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16"/>
          <p:cNvSpPr/>
          <p:nvPr/>
        </p:nvSpPr>
        <p:spPr>
          <a:xfrm>
            <a:off x="0" y="0"/>
            <a:ext cx="13169880" cy="23410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17"/>
          <p:cNvSpPr/>
          <p:nvPr/>
        </p:nvSpPr>
        <p:spPr>
          <a:xfrm>
            <a:off x="255600" y="512640"/>
            <a:ext cx="12708000" cy="216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表 12"/>
          <p:cNvGrpSpPr/>
          <p:nvPr/>
        </p:nvGrpSpPr>
        <p:grpSpPr>
          <a:xfrm>
            <a:off x="795240" y="4492800"/>
            <a:ext cx="11490480" cy="12563280"/>
            <a:chOff x="795240" y="4492800"/>
            <a:chExt cx="11490480" cy="12563280"/>
          </a:xfrm>
        </p:grpSpPr>
        <p:sp>
          <p:nvSpPr>
            <p:cNvPr id="54" name=""/>
            <p:cNvSpPr/>
            <p:nvPr/>
          </p:nvSpPr>
          <p:spPr>
            <a:xfrm>
              <a:off x="795240" y="4492800"/>
              <a:ext cx="11490480" cy="80640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Monday to Frida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524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9720" y="5299200"/>
              <a:ext cx="19162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2600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4048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496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369440" y="5299200"/>
              <a:ext cx="19162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5240" y="9077400"/>
              <a:ext cx="11490480" cy="80784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Saturda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524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9720" y="9885240"/>
              <a:ext cx="19162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2600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4048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5496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369440" y="9885240"/>
              <a:ext cx="19162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5240" y="13066560"/>
              <a:ext cx="11490480" cy="806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Sunda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524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9720" y="13873320"/>
              <a:ext cx="19162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2600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5496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369440" y="13873320"/>
              <a:ext cx="19162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972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0972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2600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2600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2600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4048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4048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4048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5496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5496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5496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6944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36944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36944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240" y="529920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5240" y="907740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5240" y="988524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5240" y="1306656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240" y="1387332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5240" y="4492800"/>
              <a:ext cx="0" cy="1256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285720" y="4492800"/>
              <a:ext cx="0" cy="1256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5240" y="449280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5240" y="1705608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00F2-89AE-46F1-8587-F5D846A796BF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94" descr="\\NAS_O4BU_03\Display\アーカイブ\11_サイネージ_中絵\2011\サンプルサイネージ\signages0331_r納品\airport_e\airport_4.jpg"/>
          <p:cNvPicPr/>
          <p:nvPr/>
        </p:nvPicPr>
        <p:blipFill>
          <a:blip r:embed="rId1"/>
          <a:srcRect l="0" t="0" r="0" b="11864"/>
          <a:stretch/>
        </p:blipFill>
        <p:spPr>
          <a:xfrm>
            <a:off x="1724040" y="17254440"/>
            <a:ext cx="9621720" cy="4770360"/>
          </a:xfrm>
          <a:prstGeom prst="rect">
            <a:avLst/>
          </a:prstGeom>
          <a:ln w="0">
            <a:noFill/>
          </a:ln>
        </p:spPr>
      </p:pic>
      <p:pic>
        <p:nvPicPr>
          <p:cNvPr id="141" name="図 19" descr=""/>
          <p:cNvPicPr/>
          <p:nvPr/>
        </p:nvPicPr>
        <p:blipFill>
          <a:blip r:embed="rId2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37"/>
          <p:cNvSpPr/>
          <p:nvPr/>
        </p:nvSpPr>
        <p:spPr>
          <a:xfrm>
            <a:off x="490680" y="1036800"/>
            <a:ext cx="6476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da-DK" sz="3500" spc="-1" strike="noStrike">
                <a:solidFill>
                  <a:srgbClr val="ffffff"/>
                </a:solidFill>
                <a:latin typeface="Arial"/>
                <a:ea typeface="Dotum"/>
              </a:rPr>
              <a:t>Lorem ipsum dolor sit am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2"/>
          <p:cNvSpPr/>
          <p:nvPr/>
        </p:nvSpPr>
        <p:spPr>
          <a:xfrm>
            <a:off x="3776760" y="517680"/>
            <a:ext cx="48495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3"/>
          <p:cNvSpPr/>
          <p:nvPr/>
        </p:nvSpPr>
        <p:spPr>
          <a:xfrm>
            <a:off x="9582120" y="1033560"/>
            <a:ext cx="51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, 20-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4"/>
          <p:cNvSpPr/>
          <p:nvPr/>
        </p:nvSpPr>
        <p:spPr>
          <a:xfrm>
            <a:off x="436680" y="2313000"/>
            <a:ext cx="11172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es leave here at the following ti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oward: AA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5200" y="4492800"/>
          <a:ext cx="11490120" cy="12563280"/>
        </p:xfrm>
        <a:graphic>
          <a:graphicData uri="http://schemas.openxmlformats.org/drawingml/2006/table">
            <a:tbl>
              <a:tblPr/>
              <a:tblGrid>
                <a:gridCol w="1914480"/>
                <a:gridCol w="1915920"/>
                <a:gridCol w="1914480"/>
                <a:gridCol w="1914480"/>
                <a:gridCol w="1914840"/>
                <a:gridCol w="1915920"/>
              </a:tblGrid>
              <a:tr h="8064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 to Frid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78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urd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67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d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7" name="テキスト ボックス 18"/>
          <p:cNvSpPr/>
          <p:nvPr/>
        </p:nvSpPr>
        <p:spPr>
          <a:xfrm>
            <a:off x="2346480" y="2234232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12"/>
          <p:cNvSpPr/>
          <p:nvPr/>
        </p:nvSpPr>
        <p:spPr>
          <a:xfrm>
            <a:off x="2743200" y="19419840"/>
            <a:ext cx="99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Simulated im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7:21Z</dcterms:modified>
  <cp:revision>60</cp:revision>
  <dc:subject/>
  <dc:title>スライド 1</dc:title>
</cp:coreProperties>
</file>