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168313" cy="23410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507-4CF2-49DA-A525-A6170EEA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84F-4B67-4F5A-8D4B-CC15D0AF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72C-1BF2-45C5-A709-987D129D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596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67348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5844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66596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67348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6E8-97FF-4127-9366-74D1A950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6A5-0CEC-4C8E-BF84-345BAB28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767-A467-4C27-8615-61C5B0D2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404-7303-4818-A466-EC52B97D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B60-E686-404C-9C7D-C5DD3A74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58440" y="936360"/>
            <a:ext cx="11852280" cy="180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539-FEF2-447C-9505-690C18A9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C05-8622-48C7-B1CD-4F10E630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AF3-C941-4AC1-B499-6C7A98E2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FD8-6678-40B5-B813-84B37749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marL="784080" indent="-784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698480" indent="-653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612880" indent="-52200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657600" indent="-5223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44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8560" y="21319920"/>
            <a:ext cx="417204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3740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7EFF-3D31-4622-8F31-1A9DB5F84A33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正方形/長方形 10"/>
          <p:cNvSpPr/>
          <p:nvPr/>
        </p:nvSpPr>
        <p:spPr>
          <a:xfrm>
            <a:off x="0" y="0"/>
            <a:ext cx="13204800" cy="23410800"/>
          </a:xfrm>
          <a:prstGeom prst="rect">
            <a:avLst/>
          </a:prstGeom>
          <a:solidFill>
            <a:srgbClr val="0070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図 7" descr=""/>
          <p:cNvPicPr/>
          <p:nvPr/>
        </p:nvPicPr>
        <p:blipFill>
          <a:blip r:embed="rId2"/>
          <a:stretch/>
        </p:blipFill>
        <p:spPr>
          <a:xfrm>
            <a:off x="4316400" y="1682640"/>
            <a:ext cx="8534520" cy="2194200"/>
          </a:xfrm>
          <a:prstGeom prst="rect">
            <a:avLst/>
          </a:prstGeom>
          <a:ln w="0">
            <a:noFill/>
          </a:ln>
        </p:spPr>
      </p:pic>
      <p:pic>
        <p:nvPicPr>
          <p:cNvPr id="7" name="図 16" descr=""/>
          <p:cNvPicPr/>
          <p:nvPr/>
        </p:nvPicPr>
        <p:blipFill>
          <a:blip r:embed="rId3"/>
          <a:stretch/>
        </p:blipFill>
        <p:spPr>
          <a:xfrm>
            <a:off x="0" y="1687680"/>
            <a:ext cx="13204800" cy="2182680"/>
          </a:xfrm>
          <a:prstGeom prst="rect">
            <a:avLst/>
          </a:prstGeom>
          <a:ln w="0">
            <a:noFill/>
          </a:ln>
        </p:spPr>
      </p:pic>
      <p:pic>
        <p:nvPicPr>
          <p:cNvPr id="8" name="図 17" descr=""/>
          <p:cNvPicPr/>
          <p:nvPr/>
        </p:nvPicPr>
        <p:blipFill>
          <a:blip r:embed="rId4"/>
          <a:stretch/>
        </p:blipFill>
        <p:spPr>
          <a:xfrm>
            <a:off x="27000" y="19674000"/>
            <a:ext cx="13177800" cy="3597120"/>
          </a:xfrm>
          <a:prstGeom prst="rect">
            <a:avLst/>
          </a:prstGeom>
          <a:ln w="0">
            <a:noFill/>
          </a:ln>
        </p:spPr>
      </p:pic>
      <p:sp>
        <p:nvSpPr>
          <p:cNvPr id="9" name="テキスト ボックス 18"/>
          <p:cNvSpPr/>
          <p:nvPr/>
        </p:nvSpPr>
        <p:spPr>
          <a:xfrm>
            <a:off x="1425240" y="2205000"/>
            <a:ext cx="203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eek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図 19" descr=""/>
          <p:cNvPicPr/>
          <p:nvPr/>
        </p:nvPicPr>
        <p:blipFill>
          <a:blip r:embed="rId5"/>
          <a:stretch/>
        </p:blipFill>
        <p:spPr>
          <a:xfrm>
            <a:off x="10088640" y="447840"/>
            <a:ext cx="2630520" cy="2328840"/>
          </a:xfrm>
          <a:prstGeom prst="rect">
            <a:avLst/>
          </a:prstGeom>
          <a:ln w="0">
            <a:noFill/>
          </a:ln>
        </p:spPr>
      </p:pic>
      <p:grpSp>
        <p:nvGrpSpPr>
          <p:cNvPr id="11" name="表 13"/>
          <p:cNvGrpSpPr/>
          <p:nvPr/>
        </p:nvGrpSpPr>
        <p:grpSpPr>
          <a:xfrm>
            <a:off x="376200" y="3349800"/>
            <a:ext cx="12466800" cy="16459200"/>
            <a:chOff x="376200" y="3349800"/>
            <a:chExt cx="12466800" cy="16459200"/>
          </a:xfrm>
        </p:grpSpPr>
        <p:sp>
          <p:nvSpPr>
            <p:cNvPr id="12" name=""/>
            <p:cNvSpPr/>
            <p:nvPr/>
          </p:nvSpPr>
          <p:spPr>
            <a:xfrm>
              <a:off x="376200" y="3349800"/>
              <a:ext cx="155880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935000" y="3349800"/>
              <a:ext cx="15573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492360" y="3349800"/>
              <a:ext cx="15591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051520" y="3349800"/>
              <a:ext cx="155880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610320" y="3349800"/>
              <a:ext cx="15573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67680" y="3349800"/>
              <a:ext cx="155880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26480" y="3349800"/>
              <a:ext cx="15573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283840" y="3349800"/>
              <a:ext cx="15591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76200" y="43178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935000" y="43178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92360" y="43178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051520" y="43178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6610320" y="43178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167680" y="43178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726480" y="43178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1283840" y="43178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76200" y="52862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935000" y="52862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492360" y="528624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051520" y="52862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10320" y="52862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167680" y="52862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726480" y="52862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1283840" y="528624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76200" y="62546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35000" y="62546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492360" y="62546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051520" y="62546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610320" y="62546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167680" y="62546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726480" y="62546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283840" y="62546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6200" y="7223040"/>
              <a:ext cx="155880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35000" y="7223040"/>
              <a:ext cx="15573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92360" y="7223040"/>
              <a:ext cx="15591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51520" y="7223040"/>
              <a:ext cx="155880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10320" y="7223040"/>
              <a:ext cx="15573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167680" y="7223040"/>
              <a:ext cx="155880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26480" y="7223040"/>
              <a:ext cx="15573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283840" y="7223040"/>
              <a:ext cx="15591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6200" y="81900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35000" y="81900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360" y="819000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51520" y="81900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10320" y="81900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67680" y="81900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726480" y="81900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83840" y="819000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6200" y="915840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35000" y="915840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92360" y="915840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51520" y="915840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10320" y="915840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67680" y="915840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726480" y="915840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283840" y="915840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6200" y="101268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35000" y="101268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92360" y="1012680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1520" y="101268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10320" y="101268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67680" y="101268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726480" y="101268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283840" y="1012680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6200" y="11095200"/>
              <a:ext cx="155880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35000" y="11095200"/>
              <a:ext cx="15573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92360" y="11095200"/>
              <a:ext cx="15591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51520" y="11095200"/>
              <a:ext cx="155880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10320" y="11095200"/>
              <a:ext cx="15573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67680" y="11095200"/>
              <a:ext cx="155880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726480" y="11095200"/>
              <a:ext cx="15573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283840" y="11095200"/>
              <a:ext cx="15591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6200" y="120632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35000" y="120632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2360" y="120632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51520" y="120632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10320" y="120632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67680" y="120632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726480" y="120632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283840" y="120632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6200" y="130316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35000" y="130316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92360" y="1303164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1520" y="130316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10320" y="130316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67680" y="130316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726480" y="130316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283840" y="1303164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6200" y="140000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35000" y="140000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92360" y="140000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51520" y="140000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10320" y="140000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67680" y="140000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726480" y="140000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283840" y="140000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6200" y="149684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35000" y="149684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2360" y="1496844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51520" y="149684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10320" y="149684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67680" y="149684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726480" y="149684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283840" y="1496844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200" y="159368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35000" y="159368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92360" y="159368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51520" y="159368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10320" y="159368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67680" y="159368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726480" y="159368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283840" y="159368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6200" y="16905240"/>
              <a:ext cx="155880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35000" y="16905240"/>
              <a:ext cx="15573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2360" y="16905240"/>
              <a:ext cx="15591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51520" y="16905240"/>
              <a:ext cx="155880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10320" y="16905240"/>
              <a:ext cx="15573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67680" y="16905240"/>
              <a:ext cx="155880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726480" y="16905240"/>
              <a:ext cx="15573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283840" y="16905240"/>
              <a:ext cx="15591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6200" y="178722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2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35000" y="178722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92360" y="1787220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51520" y="178722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10320" y="178722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67680" y="178722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26480" y="178722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283840" y="1787220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6200" y="1884060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2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35000" y="1884060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92360" y="1884060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51520" y="1884060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10320" y="1884060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67680" y="1884060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726480" y="1884060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283840" y="1884060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3500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9236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5152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032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768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72648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28384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6200" y="43178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6200" y="52862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6200" y="62546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6200" y="72230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6200" y="81900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6200" y="91584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6200" y="101268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6200" y="110952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6200" y="120632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6200" y="130316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6200" y="140000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6200" y="149684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200" y="159368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6200" y="169052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200" y="178722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200" y="188406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20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84300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6200" y="33498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6200" y="198090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37"/>
          <p:cNvSpPr/>
          <p:nvPr/>
        </p:nvSpPr>
        <p:spPr>
          <a:xfrm>
            <a:off x="490680" y="21950280"/>
            <a:ext cx="122284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Lorem ipsum dolor sit amet, singulis platonem maiestatis ex qui, an sed harum meli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Te reque ullamcorper u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テキスト ボックス 47"/>
          <p:cNvSpPr/>
          <p:nvPr/>
        </p:nvSpPr>
        <p:spPr>
          <a:xfrm>
            <a:off x="5987880" y="2205000"/>
            <a:ext cx="1959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atur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正方形/長方形 10"/>
          <p:cNvSpPr/>
          <p:nvPr/>
        </p:nvSpPr>
        <p:spPr>
          <a:xfrm>
            <a:off x="0" y="0"/>
            <a:ext cx="13204800" cy="23410800"/>
          </a:xfrm>
          <a:prstGeom prst="rect">
            <a:avLst/>
          </a:prstGeom>
          <a:solidFill>
            <a:srgbClr val="0070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図 21" descr=""/>
          <p:cNvPicPr/>
          <p:nvPr/>
        </p:nvPicPr>
        <p:blipFill>
          <a:blip r:embed="rId1"/>
          <a:stretch/>
        </p:blipFill>
        <p:spPr>
          <a:xfrm>
            <a:off x="4316400" y="1682640"/>
            <a:ext cx="8534520" cy="2194200"/>
          </a:xfrm>
          <a:prstGeom prst="rect">
            <a:avLst/>
          </a:prstGeom>
          <a:ln w="0">
            <a:noFill/>
          </a:ln>
        </p:spPr>
      </p:pic>
      <p:pic>
        <p:nvPicPr>
          <p:cNvPr id="215" name="図 16" descr=""/>
          <p:cNvPicPr/>
          <p:nvPr/>
        </p:nvPicPr>
        <p:blipFill>
          <a:blip r:embed="rId2"/>
          <a:stretch/>
        </p:blipFill>
        <p:spPr>
          <a:xfrm>
            <a:off x="0" y="1687680"/>
            <a:ext cx="13204800" cy="2182680"/>
          </a:xfrm>
          <a:prstGeom prst="rect">
            <a:avLst/>
          </a:prstGeom>
          <a:ln w="0">
            <a:noFill/>
          </a:ln>
        </p:spPr>
      </p:pic>
      <p:pic>
        <p:nvPicPr>
          <p:cNvPr id="216" name="図 17" descr=""/>
          <p:cNvPicPr/>
          <p:nvPr/>
        </p:nvPicPr>
        <p:blipFill>
          <a:blip r:embed="rId3"/>
          <a:stretch/>
        </p:blipFill>
        <p:spPr>
          <a:xfrm>
            <a:off x="57240" y="19586520"/>
            <a:ext cx="13177800" cy="3567240"/>
          </a:xfrm>
          <a:prstGeom prst="rect">
            <a:avLst/>
          </a:prstGeom>
          <a:ln w="0">
            <a:noFill/>
          </a:ln>
        </p:spPr>
      </p:pic>
      <p:sp>
        <p:nvSpPr>
          <p:cNvPr id="217" name="テキスト ボックス 18"/>
          <p:cNvSpPr/>
          <p:nvPr/>
        </p:nvSpPr>
        <p:spPr>
          <a:xfrm>
            <a:off x="1425240" y="2205000"/>
            <a:ext cx="203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eek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図 19" descr=""/>
          <p:cNvPicPr/>
          <p:nvPr/>
        </p:nvPicPr>
        <p:blipFill>
          <a:blip r:embed="rId4"/>
          <a:stretch/>
        </p:blipFill>
        <p:spPr>
          <a:xfrm>
            <a:off x="10088640" y="447840"/>
            <a:ext cx="2630520" cy="23288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37"/>
          <p:cNvSpPr/>
          <p:nvPr/>
        </p:nvSpPr>
        <p:spPr>
          <a:xfrm>
            <a:off x="433440" y="233280"/>
            <a:ext cx="9414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ndara"/>
                <a:ea typeface="Dotum"/>
              </a:rPr>
              <a:t>KDM Line Timet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76200" y="3349800"/>
          <a:ext cx="12466800" cy="16459200"/>
        </p:xfrm>
        <a:graphic>
          <a:graphicData uri="http://schemas.openxmlformats.org/drawingml/2006/table">
            <a:tbl>
              <a:tblPr/>
              <a:tblGrid>
                <a:gridCol w="1558800"/>
                <a:gridCol w="1557360"/>
                <a:gridCol w="1559160"/>
                <a:gridCol w="1558800"/>
                <a:gridCol w="1557360"/>
                <a:gridCol w="1558800"/>
                <a:gridCol w="1557360"/>
                <a:gridCol w="1559160"/>
              </a:tblGrid>
              <a:tr h="96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21" name="Text Box 137"/>
          <p:cNvSpPr/>
          <p:nvPr/>
        </p:nvSpPr>
        <p:spPr>
          <a:xfrm>
            <a:off x="666720" y="21950280"/>
            <a:ext cx="122284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Lorem ipsum dolor sit amet, singulis platonem maiestatis ex qui, an sed harum meli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Te reque ullamcorper u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47"/>
          <p:cNvSpPr/>
          <p:nvPr/>
        </p:nvSpPr>
        <p:spPr>
          <a:xfrm>
            <a:off x="5987880" y="2205000"/>
            <a:ext cx="1959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atur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7"/>
          <p:cNvSpPr/>
          <p:nvPr/>
        </p:nvSpPr>
        <p:spPr>
          <a:xfrm>
            <a:off x="490680" y="1036800"/>
            <a:ext cx="6476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da-DK" sz="3500" spc="-1" strike="noStrike">
                <a:solidFill>
                  <a:srgbClr val="ffffff"/>
                </a:solidFill>
                <a:latin typeface="Arial"/>
                <a:ea typeface="Dotum"/>
              </a:rPr>
              <a:t>Lorem ipsum dolor sit am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13"/>
          <p:cNvSpPr/>
          <p:nvPr/>
        </p:nvSpPr>
        <p:spPr>
          <a:xfrm>
            <a:off x="4689360" y="20500920"/>
            <a:ext cx="3746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AD Spac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38:22Z</dcterms:modified>
  <cp:revision>45</cp:revision>
  <dc:subject/>
  <dc:title>スライド 1</dc:title>
</cp:coreProperties>
</file>